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8E5-E80F-4F71-ACF9-1139FDBA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BEC-D607-4A64-A4FD-0E772292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EDF-54C3-43C8-877B-11772E72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416-5B83-47A7-9C67-F20D9350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A76-4C4F-4D78-92FD-E29DE71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C7F-9BB7-4692-A25E-DA19FF2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D94-7767-4DEF-B1D8-FAC87B88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4E-79E1-4730-9FCC-A31DDE87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085-0DA8-4BB8-A6C7-27BA9A6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8C3-F4AD-4700-8615-8485EE8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65-98FD-4E7A-A03E-FBF2DE3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0E0-6A44-40F8-A8F1-1F5F57D4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84C-F99A-4218-B60F-6545AFAAC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DADA COLLAGE OR POST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OAL: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Using images from popular culture, make a statement about our socie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adbusters_flag.bmp"/>
          <p:cNvPicPr/>
          <p:nvPr/>
        </p:nvPicPr>
        <p:blipFill>
          <a:blip r:embed="rId1"/>
          <a:stretch/>
        </p:blipFill>
        <p:spPr>
          <a:xfrm>
            <a:off x="1509840" y="1066680"/>
            <a:ext cx="6262560" cy="343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44197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ada artists wanted to attack and ridicule socie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ausmann_artcritic2.jpg"/>
          <p:cNvPicPr/>
          <p:nvPr/>
        </p:nvPicPr>
        <p:blipFill>
          <a:blip r:embed="rId1"/>
          <a:stretch/>
        </p:blipFill>
        <p:spPr>
          <a:xfrm>
            <a:off x="2571840" y="228600"/>
            <a:ext cx="3905280" cy="5035680"/>
          </a:xfrm>
          <a:prstGeom prst="rect">
            <a:avLst/>
          </a:prstGeom>
          <a:ln w="0">
            <a:noFill/>
          </a:ln>
        </p:spPr>
      </p:pic>
      <p:sp>
        <p:nvSpPr>
          <p:cNvPr id="47" name="Title 1"/>
          <p:cNvSpPr/>
          <p:nvPr/>
        </p:nvSpPr>
        <p:spPr>
          <a:xfrm>
            <a:off x="6477120" y="1066680"/>
            <a:ext cx="2590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s man was an art critic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-76320" y="1066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tice his eyes and mout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ages are everywhere!  Use creativity and iron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absoluteaa_1"/>
          <p:cNvPicPr/>
          <p:nvPr/>
        </p:nvPicPr>
        <p:blipFill>
          <a:blip r:embed="rId1"/>
          <a:srcRect l="19565" t="0" r="22824" b="0"/>
          <a:stretch/>
        </p:blipFill>
        <p:spPr>
          <a:xfrm>
            <a:off x="2895480" y="419040"/>
            <a:ext cx="4038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igmac.jpg"/>
          <p:cNvPicPr/>
          <p:nvPr/>
        </p:nvPicPr>
        <p:blipFill>
          <a:blip r:embed="rId1"/>
          <a:stretch/>
        </p:blipFill>
        <p:spPr>
          <a:xfrm>
            <a:off x="1390680" y="1457280"/>
            <a:ext cx="6362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3:50:54Z</dcterms:created>
  <dc:creator>profile</dc:creator>
  <dc:description/>
  <dc:language>en-US</dc:language>
  <cp:lastModifiedBy>profile</cp:lastModifiedBy>
  <dcterms:modified xsi:type="dcterms:W3CDTF">2010-08-11T00:12:02Z</dcterms:modified>
  <cp:revision>3</cp:revision>
  <dc:subject/>
  <dc:title>Slide 1</dc:title>
</cp:coreProperties>
</file>